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73B-BC71-493B-90A5-0C15490F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E05-2DBB-45BF-B179-5E7E0C3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74A-8480-4F1B-AC9D-E146F58C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DF5-4EB7-437F-81F2-382C5B40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501AE-59FB-45A4-BA9D-93FB9BAC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CDE3A-9CBE-46AA-8CA6-2B4F6E7C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DF1D0-E7DB-47A4-B6F5-3F2584E2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2C66E-8DC2-43D2-A249-10C68E4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32FF-9584-4B58-9BC0-7F33D2E0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58467-CF54-423B-A3F9-3D8B6911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2431C-3A00-48F0-97AE-9234E90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D4B-96F4-4735-85E3-E0D6D62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FEA66-0D4A-4195-ACC3-C22722B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715E2-B14A-4159-BDB5-062EB6C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DBE84-95A9-4230-BF1B-74D09BF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78FB1-FD0F-4F2D-ACEA-D9259510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D81B-1994-46E3-A193-875FA1D0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1B5-C858-4EA2-850B-DF83C85D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001-1644-4B81-8100-4878251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A5A-D104-4735-AEC4-9804FCB8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A31-53C8-4A34-9464-09719CA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BE5-3AB2-4B4D-A77C-2F41B0E4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EDE-7989-4E7F-A14C-3ACDEFC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7AB-F032-479E-8577-D587F69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B158-D773-4354-8234-3C09E4DBC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7CFC-6467-4FDC-8411-CA4161D97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images.google.com/imgres?imgurl=http://www.marinebiodiversity.ca/BayOfFundy/pix/anemoneCnidarians.gif&amp;imgrefurl=http://www.marinebiodiversity.ca/BayOfFundy/links.html&amp;usg=__kVDZ0TVNWfq-C9o5zwUOXW-81s8=&amp;h=214&amp;w=200&amp;sz=29&amp;hl=en&amp;start=19&amp;um=1&amp;tbnid=tvgvcBnSXrTf7M:&amp;tbnh=106&amp;tbnw=99&amp;prev=/images%3Fq%3DCnidarians%26hl%3Den%26safe%3Dactive%26sa%3DN%26um%3D1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tropicarium.se/images/koraller.jpg&amp;imgrefurl=http://www.tropicarium.se/index.php%3Fid%3D91%26lang%3Den&amp;usg=__hkHJv48dq82oss5EDXN1ghDmLz4=&amp;h=400&amp;w=396&amp;sz=89&amp;hl=en&amp;start=39&amp;um=1&amp;tbnid=oBz6O_wG3U16bM:&amp;tbnh=124&amp;tbnw=123&amp;prev=/images%3Fq%3DCnidarians%26ndsp%3D20%26hl%3Den%26safe%3Dactive%26sa%3DN%26start%3D20%26um%3D1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google.com/imgres?imgurl=http://genomeportal.jgi-psf.org/Nemve1/Nematostellapolyp.jpg&amp;imgrefurl=http://genomeportal.jgi-psf.org/Nemve1/Nemve1.home.html&amp;usg=__J1_FNsddM-FwI4bMTOPyDTrGE1Y=&amp;h=406&amp;w=300&amp;sz=102&amp;hl=en&amp;start=47&amp;um=1&amp;tbnid=vznmvxLS33CVJM:&amp;tbnh=124&amp;tbnw=92&amp;prev=/images%3Fq%3DCnidarians%26ndsp%3D20%26hl%3Den%26safe%3Dactive%26sa%3DN%26start%3D40%26um%3D1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images.google.com/imgres?imgurl=http://z.about.com/d/animals/1/G/T/Z/cnidarians2.jpg&amp;imgrefurl=http://animals.about.com/cs/cnidaria/g/cnidaria.htm&amp;usg=__cZhgU6Z2jvVbBBNtK8xF5_WNNwo=&amp;h=160&amp;w=160&amp;sz=45&amp;hl=en&amp;start=53&amp;um=1&amp;tbnid=wN_AS3gACzpyrM:&amp;tbnh=98&amp;tbnw=98&amp;prev=/images%3Fq%3DCnidarians%26ndsp%3D20%26hl%3Den%26safe%3Dactive%26sa%3DN%26start%3D40%26um%3D1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ogbreedinfo.com/images14/TapewormImg_1384.jpg&amp;imgrefurl=http://www.dogbreedinfo.com/wormstapewormphotos.htm&amp;usg=__WAbBbWNPzV3ecrzkovpAF65M8x4=&amp;h=300&amp;w=400&amp;sz=23&amp;hl=en&amp;start=1&amp;um=1&amp;tbnid=yZe_piYWJ0Z2YM:&amp;tbnh=93&amp;tbnw=124&amp;prev=/images%3Fq%3Dtapeworm%26hl%3Den%26safe%3Dactive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astrographics.com/GalleryPrints/Display/GP2104.jpg&amp;imgrefurl=http://www.astrographics.com/cgi-bin/ase/ase.cgi%3Faffiliate%3D%26mode%3Ddisplay%26gallery%3D3%26type%3D%26color%3D%26keywords%3D%26page%3D108&amp;usg=__tanNcRX19Qc8OI8KcM1HBovaJbU=&amp;h=360&amp;w=360&amp;sz=16&amp;hl=en&amp;start=6&amp;um=1&amp;tbnid=XBJUhLO2c1_JfM:&amp;tbnh=121&amp;tbnw=121&amp;prev=/images%3Fq%3Dtapeworm%26hl%3Den%26safe%3Dactive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locksparkfarm.files.wordpress.com/2007/12/fluke.jpg&amp;imgrefurl=http://locksparkfarm.wordpress.com/2007/12/03/its-a-fluke/&amp;usg=__AS9T8FIuxOthjqlvZe9zploZ-CY=&amp;h=319&amp;w=474&amp;sz=24&amp;hl=en&amp;start=19&amp;um=1&amp;tbnid=okiUZRMy4dvFxM:&amp;tbnh=87&amp;tbnw=129&amp;prev=/images%3Fq%3Dfluke%26hl%3Den%26safe%3Dactive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www.americanaquariumproducts.com/images/graphics/planaria.jpg&amp;imgrefurl=http://www.fish-as-pets.com/2007/11/planaria-detritus-internet-answers.html&amp;usg=__jJ_PrB7TazD0xQ-UUqPh3z32CCg=&amp;h=375&amp;w=500&amp;sz=37&amp;hl=en&amp;start=1&amp;um=1&amp;tbnid=u17MaSt6Xu8DoM:&amp;tbnh=98&amp;tbnw=130&amp;prev=/images%3Fq%3Dplanaria%26hl%3Den%26safe%3Dactive%26um%3D1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greatlakesbcrescue.org/HealthNTraining/heartworms.JPG&amp;imgrefurl=http://www.greatlakesbcrescue.org/HealthNTraining/Heartworm.htm&amp;usg=__p1NgZeIKaZV85KXLh7X0HFaFP7Y=&amp;h=200&amp;w=280&amp;sz=19&amp;hl=en&amp;start=3&amp;um=1&amp;tbnid=HnMDryFuKrgXCM:&amp;tbnh=81&amp;tbnw=114&amp;prev=/images%3Fq%3Dheartworms%26hl%3Den%26safe%3Dactive%26um%3D1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l Kingdom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hrop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gh outer covering called exoskele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ed appendages that are used for walking, sensing, feeding and m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out of every 3 animals on earth are arthrop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ders, crabs, lobster, shrimp, crayfish, centipedes, millipedes and ins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95480" y="1974960"/>
            <a:ext cx="381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hinoderm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bumpy, spiny endoskeleton covered with a thin epiderm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 with tiny, suction-cup like tube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 cucumbers, sea st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3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lcome to the Vertebrat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otherm – temperature depends on an external heat sou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chambered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eath through gi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1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ib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tothe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chambered he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n, moist 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s mainly live on 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go through metamorph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gs, toads, salama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4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t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oth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y, scaly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wed t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have a 3 chambered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, lizards, turtles, crocodiles and alliga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class with fea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es on feet, clawed t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otherm – maintain constant body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mm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oth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have h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milk to feed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chambered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nges: Porifera. United Learning. 2002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7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/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lum Arthropoda: Arthropods, the Joint-Legged Animals. United Learning. 2002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8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a Stars: Unique Physical Structures and Propulsion System, the Water Vascular System . Aims Multimedia. 1993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8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/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mphibians. 100% Educational Videos. 2002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8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/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Makes It An Animal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karyotic – has a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zed cells that form tissue and org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ell w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have a way to move that helps them reproduce, obtain food and protect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Anim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tebrates – no backb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tebrates - backb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o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ssue level of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rg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ter fee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nidar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d for the stinging cells that they use to capture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lyfish, coral, sea anemone and hyd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1695240" cy="162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1790640" cy="181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1295280"/>
            <a:ext cx="943200" cy="100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5029200"/>
            <a:ext cx="117180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52880" y="4572000"/>
            <a:ext cx="1158840" cy="156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3400" y="1600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atwo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, solid b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body ca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pening, food enters and le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sitic tapew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2590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29400" y="1066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3505320"/>
            <a:ext cx="1676160" cy="113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86200" y="4724280"/>
            <a:ext cx="1981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undwo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be-like digestive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-living some are parasi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worms in dogs, hook worms and pin wo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419720"/>
            <a:ext cx="2286000" cy="162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038480" y="4267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095880" y="5105520"/>
            <a:ext cx="1312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lus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ugs, snails, clams, squids and octopu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estive tract with two open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ular foot for mov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tle that surrounds the internal org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838160" cy="118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1866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7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8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gmented Wo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lindrical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estive tract with two open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thworms, lee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6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1:59Z</dcterms:created>
  <dc:creator>Clear Creek ISD</dc:creator>
  <dc:description/>
  <dc:language>en-US</dc:language>
  <cp:lastModifiedBy>Clear Creek ISD</cp:lastModifiedBy>
  <dcterms:modified xsi:type="dcterms:W3CDTF">2009-05-08T13:51:33Z</dcterms:modified>
  <cp:revision>10</cp:revision>
  <dc:subject/>
  <dc:title>Animal Kingdom Overview</dc:title>
</cp:coreProperties>
</file>